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8C6-EAE7-4A3A-98F5-3FA6E73F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856-3D51-46FF-B914-4460B41C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A91-04EF-4E4D-8262-3AE94500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4B9-8F76-49B4-B901-FDDFB1FD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78E0-2313-41C5-ABFF-ED6B50C7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839-B54C-458F-A807-B362C80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391-C2EA-4CF5-B16E-551F739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85A-5E35-4E89-A4FC-01B916B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D36-B531-4BF1-B4C1-3C5ECDC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D963-1C82-43DE-8291-8C7541BE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237E-9789-4B11-BD30-9D74B22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4B6-FBE6-466F-984C-553FBF71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ABB-931B-47A5-BD3D-7248C35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20CA-73F5-4DED-A9DC-552667C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2E70-F72D-4749-A8AA-B3F0D221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11A1-EEC1-4D09-8B99-78C53262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0402-E545-48EF-AE75-849DCE0D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D35-C9DD-4525-A54B-C6FAEF2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B26-FEE5-4FC6-B488-F0D352F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613-1378-41DD-9372-ECA87C69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D33-9FF7-46DA-A811-58FD69E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3C9-275D-4E8A-8CD5-2349B1D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419-4D4F-4693-A588-1014307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111-B71E-4C33-9541-BFD02BD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4C6-1F91-4C82-B33A-06A3B7BC31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BEB-4AE6-4438-A660-0625CAAE4C7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ich popcorn brand pops the most popcorn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281952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Megan Marti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9</a:t>
            </a:r>
            <a:r>
              <a:rPr b="0" lang="en-US" sz="4000" spc="-1" strike="noStrike" baseline="30000">
                <a:solidFill>
                  <a:srgbClr val="ffffcc"/>
                </a:solidFill>
                <a:latin typeface="Verdan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gra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ellwood Antis High Schoo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ntrol Variabl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oking time-2min 30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placement of the popcorn in th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me size ba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corn brands were all buttered popcor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of room is 22 degrees Celsi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eat level of th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ing the sam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ing the popcorn bag face u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Number of popped kernel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752480"/>
          <a:ext cx="8382240" cy="4267440"/>
        </p:xfrm>
        <a:graphic>
          <a:graphicData uri="http://schemas.openxmlformats.org/drawingml/2006/table">
            <a:tbl>
              <a:tblPr/>
              <a:tblGrid>
                <a:gridCol w="1333800"/>
                <a:gridCol w="1409400"/>
                <a:gridCol w="1447920"/>
                <a:gridCol w="1371600"/>
                <a:gridCol w="1371600"/>
                <a:gridCol w="14479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over Valle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ville Redenbach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lly Tim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p Weav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an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3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8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2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Number of unpopped kernel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828800"/>
          <a:ext cx="8001000" cy="4267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440"/>
                <a:gridCol w="1333800"/>
                <a:gridCol w="13334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over Valle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ville </a:t>
                      </a: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denbacher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lly Tim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p Weav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an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Number of popped and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unpopped kern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Object 5" descr=""/>
          <p:cNvPicPr/>
          <p:nvPr/>
        </p:nvPicPr>
        <p:blipFill>
          <a:blip r:embed="rId1"/>
          <a:stretch/>
        </p:blipFill>
        <p:spPr>
          <a:xfrm>
            <a:off x="514440" y="1655640"/>
            <a:ext cx="8113680" cy="4419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295280" y="5715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Clover valley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057400" y="571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Orville Redenbach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76720" y="57150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Jolly    Tim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191120" y="5715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Pop Weav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181480" y="5791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Gi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My data supports my hypothesis that Jolly Time popcorn produced the most popcorn kern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Further Idea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Problem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Which popcorn brand will pop the most popcorn?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earc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ypothesi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Jolly Time will pop the most popcorn.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445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Experimental Variable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Different popcorn brand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erimental Group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over Valley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ville Redenbacher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lly Time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Weaver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ant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erimental Proced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1: Gather material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2: Take one bag of popcorn and remove plastic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3: Put popcorn in the center of the microwave and follow directions on the bag to coo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4: Open bag and immediately empty popcorn out into the bow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Experimental procedure continue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5: Count total number of popped kern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6: Count total number of unpopped kern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7: Record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8: Repeat steps 2-7 three more times with the same popcorn bra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9: Repeat steps 2-8 with a different popcorn bra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ntrol Group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tting the popcorn in the microwave and not turning the microwave 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26:56Z</dcterms:created>
  <dc:creator>Martin</dc:creator>
  <dc:description/>
  <dc:language>en-US</dc:language>
  <cp:lastModifiedBy>Alice M. Flarend</cp:lastModifiedBy>
  <dcterms:modified xsi:type="dcterms:W3CDTF">2011-03-04T21:28:01Z</dcterms:modified>
  <cp:revision>9</cp:revision>
  <dc:subject/>
  <dc:title>Which popcorn brand pops the most popcorn?</dc:title>
</cp:coreProperties>
</file>